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63B0D-E7C0-43EF-AF2B-4365B5965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483AA-E500-4C81-8FB1-66B2F8339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9E9C0-51AC-41CF-B1B7-E52EFF60A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1A1EA-B74D-4EF6-9C86-9B24D3ECB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C9BDD-9E27-4083-A33A-41E96D5A2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13C36-D7B8-4377-875F-B10F9B37D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69818-5B2D-472B-A385-CB9454B9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78990-95ED-4611-A4E3-FE3043F1A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3F1EC-E920-4DCF-B381-2280B5B21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A9C54-936C-4166-8EC4-6C5996E03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FAAE8-D962-48F0-BD0C-06F975261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1303-C2B3-4D18-86AF-F0B16AC43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B7E5B-21B6-41D5-AFF8-79A29BC7D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6099-1A45-4A60-9A2B-44595F260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4EE80-C26E-4E98-AC9A-00FDC781A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FB952-D038-4B33-81FC-470ED815C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86E2E-E877-41BB-95C6-D69E5DE62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75D737-2FC3-4555-9F06-7C3741035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2C2BA-CAE3-49E3-94DB-CA42CF48E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DDB5B-48F1-4B0C-BFCA-D8C0075DC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BDFD9-55F3-4480-A072-3EC0BE880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BAF05-5E05-4A7F-9A0D-B36C11B28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7BA98-9332-4A59-87FC-289AB1C6C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B9F86-7B22-4EF8-8EF5-571658BFC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F4AED-4BA3-4198-84E4-EBCE31B64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DDC7A-AE06-4DD2-9652-9FF77716D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4BF96-5FA8-459D-82BF-6EE6696AA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7936B-BF6E-4901-9D74-B6D541718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B07AA3-B9CB-4808-8B77-196B3624D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CC574-072C-45DE-8A48-F745680E0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FE7974-AA45-4009-9C39-AB3177EA0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3117E-4794-48FB-9BDE-6B47147FD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714FA-8893-4F37-A343-882ABDF3A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E6202-80DF-47DE-803B-01E7390A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3DE48-9A06-4CFE-B2B2-9D23461D6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8E6931-178D-48F3-A16F-DE2397FCB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877DF-0A09-4483-BEB0-D725365E1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5C118-7006-4810-9B3B-C8A563605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818F2-7E21-46F5-9096-B3EEA4019E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AE4AD-0C18-432C-8212-DCC419B86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E8ECF-C36F-4C97-8277-4B22DB786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5EC1F5-29AA-401E-A438-809F14F532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1499C-56A1-4F02-8B21-6944D2EB4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EAE3EA-88BC-4CE6-A79C-2A06FB6B07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66805-F08E-4FE0-9D13-EA13C10E0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66B0A-A081-4A62-9FEE-A1767CEBC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1ECB2-E309-464B-8C42-F6F3A29FA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052BC-55F0-463D-A259-646BAA8EE7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303E85-3CB0-414B-9485-8840A51C8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71EA3-EEA2-4179-AC46-325A0034A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9A498-F7CA-40DF-9E7A-C69BBB997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95F56-B0EB-4B06-8D7F-6363828E3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AD129-C249-4052-B96E-5DD810098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F52E8-2785-4D0E-AB28-FD4EB96AD3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945FC2-311C-4E51-93B4-2FDC8E9830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1186B-7CD9-4395-B351-CB400A05C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5CD25A-12AB-46E8-8028-B48D41AE41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3E10-0C52-4F3A-AFB0-0E362D57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8DD8-3BA2-464A-B024-205C7CDB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AAA0-5FD1-4593-8419-F35C5DABD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816D-30D9-455B-A8E2-74B77530F4C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BD9D-C925-4777-8EF1-4D792CD0AD84}"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EE35-5D61-41A6-9AE8-9F90F73209C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089C-8F16-4B97-999C-34E903DE789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BB94-87FF-4114-B690-B8B8D3FD551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8d3e"/>
                </a:solidFill>
                <a:latin typeface="Verdana"/>
              </a:rPr>
              <a:t>Metacrawler</a:t>
            </a:r>
            <a:endParaRPr b="1" lang="en-US" sz="72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elissa Cyr</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Information Literacy</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545580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23" name=""/>
          <p:cNvSpPr txBox="1"/>
          <p:nvPr/>
        </p:nvSpPr>
        <p:spPr>
          <a:xfrm>
            <a:off x="514080" y="530280"/>
            <a:ext cx="3932280" cy="472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t>
            </a:r>
            <a:r>
              <a:rPr b="1" lang="en-US" sz="2600" spc="-1" strike="noStrike">
                <a:solidFill>
                  <a:srgbClr val="000000"/>
                </a:solidFill>
                <a:latin typeface="Verdana"/>
              </a:rPr>
              <a:t>metasearch</a:t>
            </a:r>
            <a:r>
              <a:rPr b="0" lang="en-US" sz="2600" spc="-1" strike="noStrike">
                <a:solidFill>
                  <a:srgbClr val="000000"/>
                </a:solidFill>
                <a:latin typeface="Verdana"/>
              </a:rPr>
              <a:t> </a:t>
            </a:r>
            <a:r>
              <a:rPr b="1" lang="en-US" sz="2600" spc="-1" strike="noStrike">
                <a:solidFill>
                  <a:srgbClr val="000000"/>
                </a:solidFill>
                <a:latin typeface="Verdana"/>
              </a:rPr>
              <a:t>engine</a:t>
            </a:r>
            <a:r>
              <a:rPr b="0" lang="en-US" sz="2600" spc="-1" strike="noStrike">
                <a:solidFill>
                  <a:srgbClr val="000000"/>
                </a:solidFill>
                <a:latin typeface="Verdana"/>
              </a:rPr>
              <a:t> is a search tool that sends user requests to several other search engines and/or databases and aggregates the results into a single list.</a:t>
            </a:r>
            <a:endParaRPr b="0" lang="en-US" sz="2600" spc="-1" strike="noStrike">
              <a:solidFill>
                <a:srgbClr val="000000"/>
              </a:solidFill>
              <a:latin typeface="Verdana"/>
            </a:endParaRPr>
          </a:p>
        </p:txBody>
      </p:sp>
      <p:pic>
        <p:nvPicPr>
          <p:cNvPr id="224" name="Picture 4" descr=""/>
          <p:cNvPicPr/>
          <p:nvPr/>
        </p:nvPicPr>
        <p:blipFill>
          <a:blip r:embed="rId1"/>
          <a:stretch/>
        </p:blipFill>
        <p:spPr>
          <a:xfrm>
            <a:off x="4191120" y="1828800"/>
            <a:ext cx="441936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26" name=""/>
          <p:cNvSpPr txBox="1"/>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rawler was created in 1994</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rawler was created at the University of Washington.</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ik Selberg was the created and he implemented Metacrawler from 1994-20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5880" y="210240"/>
            <a:ext cx="2414880" cy="39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07f09"/>
              </a:solidFill>
              <a:latin typeface="Verdana"/>
            </a:endParaRPr>
          </a:p>
        </p:txBody>
      </p:sp>
      <p:sp>
        <p:nvSpPr>
          <p:cNvPr id="228" name="PlaceHolder 2"/>
          <p:cNvSpPr>
            <a:spLocks noGrp="1"/>
          </p:cNvSpPr>
          <p:nvPr>
            <p:ph/>
          </p:nvPr>
        </p:nvSpPr>
        <p:spPr>
          <a:xfrm>
            <a:off x="6019560" y="1447560"/>
            <a:ext cx="2490840" cy="4206600"/>
          </a:xfrm>
          <a:prstGeom prst="rect">
            <a:avLst/>
          </a:prstGeom>
          <a:noFill/>
          <a:ln w="0">
            <a:noFill/>
          </a:ln>
        </p:spPr>
        <p:txBody>
          <a:bodyPr rIns="90000" tIns="91440" bIns="46800" anchor="t">
            <a:normAutofit/>
          </a:bodyPr>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etacrawler homepage also lists “Popular Searches”.  I found this feature to be unique.</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etacrawler has a very clean and spacious look to its homepage.  This eliminates any confusion or feeling that the website is complicated.</a:t>
            </a:r>
            <a:endParaRPr b="0" lang="en-US" sz="1400" spc="-1" strike="noStrike">
              <a:solidFill>
                <a:srgbClr val="000000"/>
              </a:solidFill>
              <a:latin typeface="Verdana"/>
            </a:endParaRPr>
          </a:p>
        </p:txBody>
      </p:sp>
      <p:pic>
        <p:nvPicPr>
          <p:cNvPr id="229" name="Picture 2" descr=""/>
          <p:cNvPicPr/>
          <p:nvPr/>
        </p:nvPicPr>
        <p:blipFill>
          <a:blip r:embed="rId1"/>
          <a:stretch/>
        </p:blipFill>
        <p:spPr>
          <a:xfrm>
            <a:off x="762120" y="685800"/>
            <a:ext cx="51814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31" name=""/>
          <p:cNvSpPr txBox="1"/>
          <p:nvPr/>
        </p:nvSpPr>
        <p:spPr>
          <a:xfrm>
            <a:off x="503280" y="529920"/>
            <a:ext cx="8183520" cy="5032440"/>
          </a:xfrm>
          <a:prstGeom prst="rect">
            <a:avLst/>
          </a:prstGeom>
          <a:noFill/>
          <a:ln w="0">
            <a:noFill/>
          </a:ln>
        </p:spPr>
        <p:txBody>
          <a:bodyPr lIns="182880" rIns="90000" tIns="91440" bIns="4680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Arial"/>
                <a:ea typeface="Arial"/>
              </a:rPr>
              <a:t>The search results you receive are a combination of the top commercial (sponsored advertising) and non-commercial (algorithmic) results from the most popular search engines on the Web. MetaCrawler’s metasearch technology combines the top ranking search results from each of the separate search engines based on your specific query. The blend of sponsored and non-sponsored results for a given search term depends on the nature of the term, but sponsored results are always clearly identified with a "Sponsored" or similar designation like thi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pic>
        <p:nvPicPr>
          <p:cNvPr id="233" name="Picture 2" descr=""/>
          <p:cNvPicPr/>
          <p:nvPr/>
        </p:nvPicPr>
        <p:blipFill>
          <a:blip r:embed="rId1"/>
          <a:stretch/>
        </p:blipFill>
        <p:spPr>
          <a:xfrm>
            <a:off x="304920" y="533520"/>
            <a:ext cx="8458200" cy="54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2:18:01Z</dcterms:created>
  <dc:creator>mlyons</dc:creator>
  <dc:description/>
  <dc:language>en-US</dc:language>
  <cp:lastModifiedBy>mlyons</cp:lastModifiedBy>
  <dcterms:modified xsi:type="dcterms:W3CDTF">2011-07-05T12:49:19Z</dcterms:modified>
  <cp:revision>4</cp:revision>
  <dc:subject/>
  <dc:title>Metacrawler</dc:title>
</cp:coreProperties>
</file>